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88E7A-9880-4B65-8FD9-6E95EF5DF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FC625-17B1-42C8-83FE-D36200CC9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F308D-53E1-498A-9ADA-B9DDED998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4384F-D4E4-4CBC-AC5C-E0A0E62A3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8D7E3-3988-48DC-8C03-5B139B7CD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B4454-A811-44F6-9CAA-F220AB4D2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43637-E39B-412A-89B7-4CA55D006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F508C-3017-41A2-998C-FC0A3E85B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C03C4-D362-466C-B1B1-BDAA9CBFD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AEDE8-605F-47F9-9C4F-87A85B39A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8AC94-8870-4775-9F95-CF3168D9F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0670-D2B2-433E-B162-7C78A1421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5632F-DBC7-4DDF-AA2F-A0734A209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18283-052B-4332-A86F-0B6B700AB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5F7CF-0AFC-47AC-8AD5-504F0D58A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87EA1-ABED-4BEA-996A-5ED1070CA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CEF05-832C-427D-88C4-97DAC24DC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8B374B-44D1-4B88-8774-EDADD15967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0FC46-E4CB-4973-9079-E89833924A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2621D-F6F2-4ACE-9316-F1B0E166E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7CE28-995C-4841-B8D7-AE71DD115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B72CE-C3A3-4F0C-83B4-4AC097EED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D4680-34D4-4C41-B710-999721F4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2752E-44DC-4458-B51E-DE3281C74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B8FBD-D155-40E1-BFE3-508A26EDF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BA20B-FBF4-405E-ADF8-809393B6A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46342-7DF2-4580-B8B3-834AA88EB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34930-C73A-479D-9936-0FAC4E3CC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E97C5-9764-42F7-AD26-297655AC62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3451E9-3F08-4FBA-BCFE-2D0ED8AB10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57611-3619-4D8C-BBEB-B7E2D18086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CFE6C-E425-4933-B537-D60BA5004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D20EF-E89F-431E-9FCB-C649068A0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3875-3F10-4E1F-A483-3492C59A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52D24C-D66A-4EC9-AE6C-5604C6C6FE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33800-3DE5-40FA-92B4-6E33EE68B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39D42-39A6-46F7-B045-AF6BE4865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CA322-B2D8-4D82-9E04-59209C20F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2D16B-32C5-4AB8-A660-840437AF3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B294A-B4DA-4794-95B0-40828ACAF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B451B-7A1C-4261-BB07-34402C53A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EC09C1-9E29-42A6-8D34-94EC32389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218CFE-BD78-4725-A540-70AC1B847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FC939-83C1-4C68-A3FB-5CAE17EDD7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6DFE-D783-490F-A174-9F6AA3F93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90674-B7F6-4E16-B666-7D42D3A93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DB67B-D2EC-43F6-A524-6E833C853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9A5D3-BE06-4FDC-9881-71CAD8C02D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3519B-B410-4397-B835-185F61CEF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B59DB-42DE-415B-A4D3-D18B31220F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8163D-F1AD-4C8A-9DE7-9B230CFEC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66128-C858-4BDB-9EFD-CADD500E0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775A4-5176-4C1D-883D-B2E6698DB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74ED9-FA79-4D6A-8645-EEB5111D26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21F19F-0875-4F88-8F78-C9818523A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C345-8B64-42B4-9BAF-B626405EC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E39637-B20B-4E87-B5B3-2284406F27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8B71CA-0DCF-4B81-B587-BE8DCC3B1B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2BB62-8F18-4537-8D9F-1C9DD187E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601DDC-F913-4740-8E36-144748043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AA421-FC0A-43B1-B816-3D6120FFE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C0C2E-448E-4D26-9903-36D532699D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2C4A0C-5B0A-4E4C-8DC2-7756CCABA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61328-B153-4EC2-8CD6-F22EAF369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71DF7A-D035-4922-8814-4FCEC407F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BF349-D186-4698-96B9-7C1848207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0934-E2D9-49A6-9BF0-797D26DB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E9AB8-229C-4D81-82FA-26515768F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EDBBE7-A7D6-4502-B556-AFB9F7796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C2F572-E2A4-4706-9628-D1028C1A7E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1A9B75-250A-4F68-8B62-3AC161ED0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69734-1D37-4E5A-92DB-1F889234B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2355F4-DD6D-4E7E-9AA1-8092C83D2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19787-CC94-42ED-BF69-B2F4DFDDA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F7553-B86D-4ADE-BF4C-51630746F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BBBBF7-8A6D-4D48-9201-13A8FB38D2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87753-2AC0-4627-A3D2-E1282918F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F1A5-D05D-4773-A44F-698AE3A78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42E4B-7F2B-4B15-BFFB-C16CE8AA7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7C5BE-CF0D-415A-B3A9-366D36D33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0403E-F78C-46DC-82ED-7A582D934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BD3E41-4499-47CB-B03F-1E3C90FAD3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D20C91-5CE0-40F3-AC0F-C86B49A5AA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6ED6-8424-4716-AB34-36395967A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DDF8-335E-4956-B84E-07CC44FAE15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D37B-4963-4760-A841-2AF4955BDDA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1A5B-11E6-4E88-9B30-F6DAB3D19B1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34DE-D043-4BAE-B0EB-4E44DB4979F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5256-8DEB-4E00-9380-CBC228CBA5F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6907-42C6-4691-8AB5-13E47EA4245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3D12-60F9-4812-823F-E828DE08E56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Beryl Chen and Brian Maloney</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68"/>
                                        </p:tgtEl>
                                        <p:attrNameLst>
                                          <p:attrName>style.visibility</p:attrName>
                                        </p:attrNameLst>
                                      </p:cBhvr>
                                      <p:to>
                                        <p:strVal val="visible"/>
                                      </p:to>
                                    </p:set>
                                    <p:animEffect filter="checkerboard(across)" transition="in">
                                      <p:cBhvr additive="repl">
                                        <p:cTn id="7"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ater Pollution Pictures</a:t>
            </a:r>
            <a:endParaRPr b="0" lang="en-US" sz="4000" spc="-1" strike="noStrike">
              <a:solidFill>
                <a:srgbClr val="c1eeff"/>
              </a:solidFill>
              <a:latin typeface="Consolas"/>
            </a:endParaRPr>
          </a:p>
        </p:txBody>
      </p:sp>
      <p:pic>
        <p:nvPicPr>
          <p:cNvPr id="390" name="Picture 3" descr="Atlantic-oil-spill-001.jpg"/>
          <p:cNvPicPr/>
          <p:nvPr/>
        </p:nvPicPr>
        <p:blipFill>
          <a:blip r:embed="rId1"/>
          <a:stretch/>
        </p:blipFill>
        <p:spPr>
          <a:xfrm>
            <a:off x="838080" y="1447920"/>
            <a:ext cx="4381560" cy="2628720"/>
          </a:xfrm>
          <a:prstGeom prst="rect">
            <a:avLst/>
          </a:prstGeom>
          <a:ln w="0">
            <a:noFill/>
          </a:ln>
        </p:spPr>
      </p:pic>
      <p:pic>
        <p:nvPicPr>
          <p:cNvPr id="391" name="Picture 4" descr="300px-Obvious_water_pollution.jpeg"/>
          <p:cNvPicPr/>
          <p:nvPr/>
        </p:nvPicPr>
        <p:blipFill>
          <a:blip r:embed="rId2"/>
          <a:stretch/>
        </p:blipFill>
        <p:spPr>
          <a:xfrm>
            <a:off x="5562720" y="1673280"/>
            <a:ext cx="3047760" cy="4583160"/>
          </a:xfrm>
          <a:prstGeom prst="rect">
            <a:avLst/>
          </a:prstGeom>
          <a:ln w="0">
            <a:noFill/>
          </a:ln>
        </p:spPr>
      </p:pic>
      <p:pic>
        <p:nvPicPr>
          <p:cNvPr id="392" name="Picture 9" descr="153507_1153350433598_m_Baltic_sea_pollution.jpg"/>
          <p:cNvPicPr/>
          <p:nvPr/>
        </p:nvPicPr>
        <p:blipFill>
          <a:blip r:embed="rId3"/>
          <a:stretch/>
        </p:blipFill>
        <p:spPr>
          <a:xfrm>
            <a:off x="1600200" y="44197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d problems</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some tundra habitats, oil spills, leaks in natural gas pipelines and the flaring of natural gas destroys the northern marshland ecosystems, which take many years to purify naturally</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the tundra, the greatest damage is cause by extraction and transportation of mineral resources by dangerous techniques</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the forest zone, irrational land use is causing land erosion</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 northern European Russia, the Urals and south-central Siberia, deforestation of trees shows the greatest threat in the taiga</a:t>
            </a:r>
            <a:endParaRPr b="0" lang="en-US" sz="2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Reindeer grazing lands are also endangered which native people count on for their livelihood</a:t>
            </a:r>
            <a:endParaRPr b="0" lang="en-US" sz="23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7" presetSubtype="4">
                                  <p:stCondLst>
                                    <p:cond delay="0"/>
                                  </p:stCondLst>
                                  <p:childTnLst>
                                    <p:set>
                                      <p:cBhvr>
                                        <p:cTn id="63" dur="1" fill="hold">
                                          <p:stCondLst>
                                            <p:cond delay="0"/>
                                          </p:stCondLst>
                                        </p:cTn>
                                        <p:tgtEl>
                                          <p:spTgt spid="393"/>
                                        </p:tgtEl>
                                        <p:attrNameLst>
                                          <p:attrName>style.visibility</p:attrName>
                                        </p:attrNameLst>
                                      </p:cBhvr>
                                      <p:to>
                                        <p:strVal val="visible"/>
                                      </p:to>
                                    </p:set>
                                    <p:anim calcmode="lin" valueType="num">
                                      <p:cBhvr additive="base">
                                        <p:cTn id="64" dur="2000" fill="hold"/>
                                        <p:tgtEl>
                                          <p:spTgt spid="393"/>
                                        </p:tgtEl>
                                        <p:attrNameLst>
                                          <p:attrName>ppt_x</p:attrName>
                                        </p:attrNameLst>
                                      </p:cBhvr>
                                      <p:tavLst>
                                        <p:tav tm="0">
                                          <p:val>
                                            <p:strVal val="#ppt_x"/>
                                          </p:val>
                                        </p:tav>
                                        <p:tav tm="100000">
                                          <p:val>
                                            <p:strVal val="#ppt_x"/>
                                          </p:val>
                                        </p:tav>
                                      </p:tavLst>
                                    </p:anim>
                                    <p:anim calcmode="lin" valueType="num">
                                      <p:cBhvr additive="base">
                                        <p:cTn id="65" dur="20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4800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d Pictures</a:t>
            </a:r>
            <a:endParaRPr b="0" lang="en-US" sz="4000" spc="-1" strike="noStrike">
              <a:solidFill>
                <a:srgbClr val="c1eeff"/>
              </a:solidFill>
              <a:latin typeface="Consolas"/>
            </a:endParaRPr>
          </a:p>
        </p:txBody>
      </p:sp>
      <p:pic>
        <p:nvPicPr>
          <p:cNvPr id="396" name="Picture 3" descr="KALCAM02T0WCA5XMWMOCANIVTY9CAWVBZRZCA3K1GGMCAY5Q564CAZV491RCAJ1NW96CA2YGB9VCABCM821CAI1L2EXCAQOFNM8CA3J222MCAKVIT68CAEH61NVCA9BFOE0CA5YVJPECAY57SPQCAOY3OLQ.jpg"/>
          <p:cNvPicPr/>
          <p:nvPr/>
        </p:nvPicPr>
        <p:blipFill>
          <a:blip r:embed="rId1"/>
          <a:stretch/>
        </p:blipFill>
        <p:spPr>
          <a:xfrm>
            <a:off x="685800" y="1371600"/>
            <a:ext cx="3855960" cy="2695680"/>
          </a:xfrm>
          <a:prstGeom prst="rect">
            <a:avLst/>
          </a:prstGeom>
          <a:ln w="0">
            <a:noFill/>
          </a:ln>
        </p:spPr>
      </p:pic>
      <p:pic>
        <p:nvPicPr>
          <p:cNvPr id="397" name="Picture 4" descr="DFDCAWALMKWCA5PSMOPCAWOFJV1CA06Z6Q0CAECH9D5CAK4HWZBCATLZ1MWCAN8VCN5CAS4GFOJCAO8M3UWCAO2GI6ZCA16S3AUCABSGJW6CA5CKNKUCA7QJ9SBCA4ONO30CAYYQ7RTCAC07QPQCAK12EL0.jpg"/>
          <p:cNvPicPr/>
          <p:nvPr/>
        </p:nvPicPr>
        <p:blipFill>
          <a:blip r:embed="rId2"/>
          <a:stretch/>
        </p:blipFill>
        <p:spPr>
          <a:xfrm>
            <a:off x="5029200" y="533520"/>
            <a:ext cx="3592440" cy="2709720"/>
          </a:xfrm>
          <a:prstGeom prst="rect">
            <a:avLst/>
          </a:prstGeom>
          <a:ln w="0">
            <a:noFill/>
          </a:ln>
        </p:spPr>
      </p:pic>
      <p:pic>
        <p:nvPicPr>
          <p:cNvPr id="398" name="Picture 8" descr="F13CA1O7278CAVH9VUHCANE1L04CARU5AKZCAONHN63CA4P8Y2BCARQYF5BCAMC77OJCA6DHTP1CAHTGQG0CA3AV2Q2CA8YOQ9SCA5F47VSCAQFXEYFCAM1ZAH0CATGED19CA9LVJBGCAXPTDDWCAJJC963.jpg"/>
          <p:cNvPicPr/>
          <p:nvPr/>
        </p:nvPicPr>
        <p:blipFill>
          <a:blip r:embed="rId3"/>
          <a:stretch/>
        </p:blipFill>
        <p:spPr>
          <a:xfrm>
            <a:off x="4800600" y="3657600"/>
            <a:ext cx="394488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5146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nsolas"/>
              </a:rPr>
              <a:t>Thanks For Watching!!!!</a:t>
            </a:r>
            <a:endParaRPr b="0" lang="en-US" sz="72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399"/>
                                        </p:tgtEl>
                                        <p:attrNameLst>
                                          <p:attrName>style.visibility</p:attrName>
                                        </p:attrNameLst>
                                      </p:cBhvr>
                                      <p:to>
                                        <p:strVal val="visible"/>
                                      </p:to>
                                    </p:set>
                                    <p:animEffect filter="fade" transition="in">
                                      <p:cBhvr additive="repl">
                                        <p:cTn id="72" dur="2000"/>
                                        <p:tgtEl>
                                          <p:spTgt spid="399"/>
                                        </p:tgtEl>
                                      </p:cBhvr>
                                    </p:animEffect>
                                  </p:childTnLst>
                                </p:cTn>
                              </p:par>
                            </p:childTnLst>
                          </p:cTn>
                        </p:par>
                        <p:par>
                          <p:cTn id="73" fill="hold">
                            <p:stCondLst>
                              <p:cond delay="2000"/>
                            </p:stCondLst>
                            <p:childTnLst>
                              <p:par>
                                <p:cTn id="74" nodeType="afterEffect" fill="hold" presetClass="exit" presetID="2" presetSubtype="4">
                                  <p:stCondLst>
                                    <p:cond delay="0"/>
                                  </p:stCondLst>
                                  <p:childTnLst>
                                    <p:anim calcmode="lin" valueType="num">
                                      <p:cBhvr additive="base">
                                        <p:cTn id="75" dur="500"/>
                                        <p:tgtEl>
                                          <p:spTgt spid="399"/>
                                        </p:tgtEl>
                                        <p:attrNameLst>
                                          <p:attrName>ppt_x</p:attrName>
                                        </p:attrNameLst>
                                      </p:cBhvr>
                                      <p:tavLst>
                                        <p:tav tm="0">
                                          <p:val>
                                            <p:strVal val="#ppt_x"/>
                                          </p:val>
                                        </p:tav>
                                        <p:tav tm="100000">
                                          <p:val>
                                            <p:strVal val="#ppt_x"/>
                                          </p:val>
                                        </p:tav>
                                      </p:tavLst>
                                    </p:anim>
                                    <p:anim calcmode="lin" valueType="num">
                                      <p:cBhvr additive="base">
                                        <p:cTn id="76" dur="500"/>
                                        <p:tgtEl>
                                          <p:spTgt spid="399"/>
                                        </p:tgtEl>
                                        <p:attrNameLst>
                                          <p:attrName>ppt_y</p:attrName>
                                        </p:attrNameLst>
                                      </p:cBhvr>
                                      <p:tavLst>
                                        <p:tav tm="0">
                                          <p:val>
                                            <p:strVal val="#ppt_y"/>
                                          </p:val>
                                        </p:tav>
                                        <p:tav tm="100000">
                                          <p:val>
                                            <p:strVal val="1+#ppt_h/2"/>
                                          </p:val>
                                        </p:tav>
                                      </p:tavLst>
                                    </p:anim>
                                    <p:set>
                                      <p:cBhvr>
                                        <p:cTn id="77" dur="1" fill="hold">
                                          <p:stCondLst>
                                            <p:cond delay="4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Environmental Problems</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suffers from problems such as air pollution, water pollution, and violation of health concerns</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was more interested in fixing things such as acid rain and deforestatio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thought that their land could absorb any kind of pollutio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ussia suffers from radioactive pollution</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16">
                                  <p:stCondLst>
                                    <p:cond delay="0"/>
                                  </p:stCondLst>
                                  <p:childTnLst>
                                    <p:set>
                                      <p:cBhvr>
                                        <p:cTn id="13" dur="1" fill="hold">
                                          <p:stCondLst>
                                            <p:cond delay="0"/>
                                          </p:stCondLst>
                                        </p:cTn>
                                        <p:tgtEl>
                                          <p:spTgt spid="370"/>
                                        </p:tgtEl>
                                        <p:attrNameLst>
                                          <p:attrName>style.visibility</p:attrName>
                                        </p:attrNameLst>
                                      </p:cBhvr>
                                      <p:to>
                                        <p:strVal val="visible"/>
                                      </p:to>
                                    </p:set>
                                    <p:animEffect filter="diamond(in)" transition="in">
                                      <p:cBhvr additive="repl">
                                        <p:cTn id="14"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3000" y="533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ir pollution</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ir pollution is a major issue</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five severe areas of air pollution are the Black Sea, the Caspian sea, the sea of Azov, the Volga River and Lake Baikal</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Only 15% of air that Russia breathes is not harmful</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ussia has one of the highest air pollution levels in the world</a:t>
            </a:r>
            <a:endParaRPr b="0" lang="en-US" sz="36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6" presetSubtype="16">
                                  <p:stCondLst>
                                    <p:cond delay="0"/>
                                  </p:stCondLst>
                                  <p:childTnLst>
                                    <p:set>
                                      <p:cBhvr>
                                        <p:cTn id="20" dur="1" fill="hold">
                                          <p:stCondLst>
                                            <p:cond delay="0"/>
                                          </p:stCondLst>
                                        </p:cTn>
                                        <p:tgtEl>
                                          <p:spTgt spid="372"/>
                                        </p:tgtEl>
                                        <p:attrNameLst>
                                          <p:attrName>style.visibility</p:attrName>
                                        </p:attrNameLst>
                                      </p:cBhvr>
                                      <p:to>
                                        <p:strVal val="visible"/>
                                      </p:to>
                                    </p:set>
                                    <p:animEffect filter="circle(in)" transition="in">
                                      <p:cBhvr additive="repl">
                                        <p:cTn id="21" dur="2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Air pollution</a:t>
            </a:r>
            <a:endParaRPr b="0" lang="en-US" sz="4000" spc="-1" strike="noStrike">
              <a:solidFill>
                <a:srgbClr val="c1eeff"/>
              </a:solidFill>
              <a:latin typeface="Consolas"/>
            </a:endParaRPr>
          </a:p>
        </p:txBody>
      </p:sp>
      <p:sp>
        <p:nvSpPr>
          <p:cNvPr id="375" name=""/>
          <p:cNvSpPr txBox="1"/>
          <p:nvPr/>
        </p:nvSpPr>
        <p:spPr>
          <a:xfrm>
            <a:off x="762120" y="1752480"/>
            <a:ext cx="7772400" cy="4572000"/>
          </a:xfrm>
          <a:prstGeom prst="rect">
            <a:avLst/>
          </a:prstGeom>
          <a:noFill/>
          <a:ln w="0">
            <a:noFill/>
          </a:ln>
        </p:spPr>
        <p:txBody>
          <a:bodyPr lIns="90000" rIns="90000" tIns="46800" bIns="46800" anchor="t">
            <a:normAutofit fontScale="98000"/>
          </a:bodyPr>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Experts are afraid that if a return to full industrial production will cause even more dangerous levels of air pollution</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In the early 1990s, Russia’s hydro Meteorological service which monitors maximum permissible concentrations (MPC) found that 231 out of 292 cities reached the MPC for particulate matter, sulfur dioxide, nitrogen oxides and can monoxide</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The most polluted cities are Moscow, St. Petersburg, Yekaterinburg, Nizhniy Tagil, Magnitogorsk, Ufa, Astrakhan, Samara, Volgograd, Omsk, Novokuznetsk</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In the early 1990s vehicles contributed to 1/3 of the air pollution in Russia</a:t>
            </a:r>
            <a:endParaRPr b="0" lang="en-US" sz="2700" spc="-1" strike="noStrike">
              <a:solidFill>
                <a:srgbClr val="ffffff"/>
              </a:solidFill>
              <a:latin typeface="Corbel"/>
            </a:endParaRPr>
          </a:p>
          <a:p>
            <a:pPr marL="402840" indent="-335520">
              <a:lnSpc>
                <a:spcPct val="6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Today, vehicles in Russia are still burning leaded fuel</a:t>
            </a:r>
            <a:endParaRPr b="0" lang="en-US" sz="27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1" presetSubtype="4">
                                  <p:stCondLst>
                                    <p:cond delay="0"/>
                                  </p:stCondLst>
                                  <p:childTnLst>
                                    <p:set>
                                      <p:cBhvr>
                                        <p:cTn id="27" dur="1" fill="hold">
                                          <p:stCondLst>
                                            <p:cond delay="0"/>
                                          </p:stCondLst>
                                        </p:cTn>
                                        <p:tgtEl>
                                          <p:spTgt spid="374"/>
                                        </p:tgtEl>
                                        <p:attrNameLst>
                                          <p:attrName>style.visibility</p:attrName>
                                        </p:attrNameLst>
                                      </p:cBhvr>
                                      <p:to>
                                        <p:strVal val="visible"/>
                                      </p:to>
                                    </p:set>
                                    <p:animEffect filter="wheel(4)" transition="in">
                                      <p:cBhvr additive="repl">
                                        <p:cTn id="28"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ir pollution pictures</a:t>
            </a:r>
            <a:endParaRPr b="0" lang="en-US" sz="4000" spc="-1" strike="noStrike">
              <a:solidFill>
                <a:srgbClr val="c1eeff"/>
              </a:solidFill>
              <a:latin typeface="Consolas"/>
            </a:endParaRPr>
          </a:p>
        </p:txBody>
      </p:sp>
      <p:pic>
        <p:nvPicPr>
          <p:cNvPr id="377" name="Picture 4" descr="Russian-power-station-001.jpg"/>
          <p:cNvPicPr/>
          <p:nvPr/>
        </p:nvPicPr>
        <p:blipFill>
          <a:blip r:embed="rId1"/>
          <a:stretch/>
        </p:blipFill>
        <p:spPr>
          <a:xfrm>
            <a:off x="762120" y="1371600"/>
            <a:ext cx="4381560" cy="2629080"/>
          </a:xfrm>
          <a:prstGeom prst="rect">
            <a:avLst/>
          </a:prstGeom>
          <a:ln w="0">
            <a:noFill/>
          </a:ln>
        </p:spPr>
      </p:pic>
      <p:pic>
        <p:nvPicPr>
          <p:cNvPr id="378" name="Picture 5" descr="chimneys_fumes_cropped.jpg"/>
          <p:cNvPicPr/>
          <p:nvPr/>
        </p:nvPicPr>
        <p:blipFill>
          <a:blip r:embed="rId2"/>
          <a:stretch/>
        </p:blipFill>
        <p:spPr>
          <a:xfrm>
            <a:off x="5257800" y="4191120"/>
            <a:ext cx="3657600" cy="2442960"/>
          </a:xfrm>
          <a:prstGeom prst="rect">
            <a:avLst/>
          </a:prstGeom>
          <a:ln w="0">
            <a:noFill/>
          </a:ln>
        </p:spPr>
      </p:pic>
      <p:pic>
        <p:nvPicPr>
          <p:cNvPr id="379" name="Picture 6" descr="sSDEpLlGsDK4GSMcxw.jpg"/>
          <p:cNvPicPr/>
          <p:nvPr/>
        </p:nvPicPr>
        <p:blipFill>
          <a:blip r:embed="rId3"/>
          <a:stretch/>
        </p:blipFill>
        <p:spPr>
          <a:xfrm>
            <a:off x="5334120" y="1523880"/>
            <a:ext cx="3543120" cy="2362320"/>
          </a:xfrm>
          <a:prstGeom prst="rect">
            <a:avLst/>
          </a:prstGeom>
          <a:ln w="0">
            <a:noFill/>
          </a:ln>
        </p:spPr>
      </p:pic>
      <p:pic>
        <p:nvPicPr>
          <p:cNvPr id="380" name="Picture 10" descr="russian_pollution.jpg"/>
          <p:cNvPicPr/>
          <p:nvPr/>
        </p:nvPicPr>
        <p:blipFill>
          <a:blip r:embed="rId4"/>
          <a:stretch/>
        </p:blipFill>
        <p:spPr>
          <a:xfrm>
            <a:off x="1295280" y="4419720"/>
            <a:ext cx="2819520" cy="211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2" name=""/>
          <p:cNvSpPr txBox="1"/>
          <p:nvPr/>
        </p:nvSpPr>
        <p:spPr>
          <a:xfrm>
            <a:off x="304920" y="1752480"/>
            <a:ext cx="8229600" cy="4525920"/>
          </a:xfrm>
          <a:prstGeom prst="rect">
            <a:avLst/>
          </a:prstGeom>
          <a:noFill/>
          <a:ln w="0">
            <a:noFill/>
          </a:ln>
        </p:spPr>
        <p:txBody>
          <a:bodyPr lIns="90000" rIns="90000" tIns="46800" bIns="46800" anchor="t">
            <a:normAutofit fontScale="91000"/>
          </a:bodyPr>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75% of Russia’s surface water is contaminated and dirty</a:t>
            </a:r>
            <a:endParaRPr b="0" lang="en-US" sz="44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An estimated 30% of groundwater is contaminated</a:t>
            </a:r>
            <a:endParaRPr b="0" lang="en-US" sz="44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rbel"/>
              </a:rPr>
              <a:t>In 1995, cholera causing bacteria was found in the Moscow River</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3" presetSubtype="16">
                                  <p:stCondLst>
                                    <p:cond delay="0"/>
                                  </p:stCondLst>
                                  <p:childTnLst>
                                    <p:set>
                                      <p:cBhvr>
                                        <p:cTn id="34" dur="1" fill="hold">
                                          <p:stCondLst>
                                            <p:cond delay="0"/>
                                          </p:stCondLst>
                                        </p:cTn>
                                        <p:tgtEl>
                                          <p:spTgt spid="381"/>
                                        </p:tgtEl>
                                        <p:attrNameLst>
                                          <p:attrName>style.visibility</p:attrName>
                                        </p:attrNameLst>
                                      </p:cBhvr>
                                      <p:to>
                                        <p:strVal val="visible"/>
                                      </p:to>
                                    </p:set>
                                    <p:animEffect filter="plus(in)" transition="in">
                                      <p:cBhvr additive="repl">
                                        <p:cTn id="35"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4" name=""/>
          <p:cNvSpPr txBox="1"/>
          <p:nvPr/>
        </p:nvSpPr>
        <p:spPr>
          <a:xfrm>
            <a:off x="914400" y="1447920"/>
            <a:ext cx="7772400" cy="4572000"/>
          </a:xfrm>
          <a:prstGeom prst="rect">
            <a:avLst/>
          </a:prstGeom>
          <a:noFill/>
          <a:ln w="0">
            <a:noFill/>
          </a:ln>
        </p:spPr>
        <p:txBody>
          <a:bodyPr lIns="90000" rIns="90000" tIns="46800" bIns="46800" anchor="t">
            <a:normAutofit/>
          </a:bodyPr>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Poorly designed irrigation systems have cause Stalinization, pollution and contamination of above and underground water</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Poor water management is making health a huge concern in cities</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Some regions have so little drinking water that the have to import safe drinking water from other regions in Russia</a:t>
            </a:r>
            <a:endParaRPr b="0" lang="en-US" sz="32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Officials have warned people of the sewage-related diseases</a:t>
            </a:r>
            <a:endParaRPr b="0" lang="en-US" sz="32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 presetSubtype="4">
                                  <p:stCondLst>
                                    <p:cond delay="0"/>
                                  </p:stCondLst>
                                  <p:childTnLst>
                                    <p:set>
                                      <p:cBhvr>
                                        <p:cTn id="41" dur="1" fill="hold">
                                          <p:stCondLst>
                                            <p:cond delay="0"/>
                                          </p:stCondLst>
                                        </p:cTn>
                                        <p:tgtEl>
                                          <p:spTgt spid="383"/>
                                        </p:tgtEl>
                                        <p:attrNameLst>
                                          <p:attrName>style.visibility</p:attrName>
                                        </p:attrNameLst>
                                      </p:cBhvr>
                                      <p:to>
                                        <p:strVal val="visible"/>
                                      </p:to>
                                    </p:set>
                                    <p:anim calcmode="lin" valueType="num">
                                      <p:cBhvr additive="base">
                                        <p:cTn id="42" dur="500" fill="hold"/>
                                        <p:tgtEl>
                                          <p:spTgt spid="383"/>
                                        </p:tgtEl>
                                        <p:attrNameLst>
                                          <p:attrName>ppt_x</p:attrName>
                                        </p:attrNameLst>
                                      </p:cBhvr>
                                      <p:tavLst>
                                        <p:tav tm="0">
                                          <p:val>
                                            <p:strVal val="#ppt_x"/>
                                          </p:val>
                                        </p:tav>
                                        <p:tav tm="100000">
                                          <p:val>
                                            <p:strVal val="#ppt_x"/>
                                          </p:val>
                                        </p:tav>
                                      </p:tavLst>
                                    </p:anim>
                                    <p:anim calcmode="lin" valueType="num">
                                      <p:cBhvr additive="base">
                                        <p:cTn id="43"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5331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6" name=""/>
          <p:cNvSpPr txBox="1"/>
          <p:nvPr/>
        </p:nvSpPr>
        <p:spPr>
          <a:xfrm>
            <a:off x="457200" y="1905120"/>
            <a:ext cx="8229600" cy="4525920"/>
          </a:xfrm>
          <a:prstGeom prst="rect">
            <a:avLst/>
          </a:prstGeom>
          <a:noFill/>
          <a:ln w="0">
            <a:noFill/>
          </a:ln>
        </p:spPr>
        <p:txBody>
          <a:bodyPr lIns="90000" rIns="90000" tIns="46800" bIns="46800" anchor="t">
            <a:normAutofit fontScale="97000"/>
          </a:bodyPr>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The sewage-related diseases are cholera, salmonella, typhoid fever, dysentery and viral hepatitis </a:t>
            </a:r>
            <a:endParaRPr b="0" lang="en-US" sz="36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In 1992, Russian officials have found 994 cases for bodies of water that were completely contaminated and unsafe </a:t>
            </a:r>
            <a:endParaRPr b="0" lang="en-US" sz="36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Runoff from the fields cause groundwater contamination</a:t>
            </a:r>
            <a:endParaRPr b="0" lang="en-US" sz="3600" spc="-1" strike="noStrike">
              <a:solidFill>
                <a:srgbClr val="ffffff"/>
              </a:solidFill>
              <a:latin typeface="Corbel"/>
            </a:endParaRPr>
          </a:p>
          <a:p>
            <a:pPr marL="398520" indent="-3322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3" presetSubtype="10">
                                  <p:stCondLst>
                                    <p:cond delay="0"/>
                                  </p:stCondLst>
                                  <p:childTnLst>
                                    <p:set>
                                      <p:cBhvr>
                                        <p:cTn id="49" dur="1" fill="hold">
                                          <p:stCondLst>
                                            <p:cond delay="0"/>
                                          </p:stCondLst>
                                        </p:cTn>
                                        <p:tgtEl>
                                          <p:spTgt spid="385"/>
                                        </p:tgtEl>
                                        <p:attrNameLst>
                                          <p:attrName>style.visibility</p:attrName>
                                        </p:attrNameLst>
                                      </p:cBhvr>
                                      <p:to>
                                        <p:strVal val="visible"/>
                                      </p:to>
                                    </p:set>
                                    <p:animEffect filter="blinds(horizontal)" transition="in">
                                      <p:cBhvr additive="repl">
                                        <p:cTn id="5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  </a:t>
            </a:r>
            <a:r>
              <a:rPr b="0" lang="en-US" sz="4000" spc="-1" strike="noStrike">
                <a:solidFill>
                  <a:srgbClr val="c1eeff"/>
                </a:solidFill>
                <a:latin typeface="Consolas"/>
              </a:rPr>
              <a:t>Water pollution</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Russians took little to no action to protect their inland bodies of water and surrounding bodies of water</a:t>
            </a:r>
            <a:endParaRPr b="0" lang="en-US" sz="32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Pollution in the gulf of Finland includes untreated sewage from St. Petersburg, where heavy metals and other chemical substances are not properly removed before dumping</a:t>
            </a:r>
            <a:endParaRPr b="0" lang="en-US" sz="32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in recent times, officials have found that many Russian rivers are carrying waterborne diseases</a:t>
            </a:r>
            <a:endParaRPr b="0" lang="en-US" sz="32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6" presetSubtype="16">
                                  <p:stCondLst>
                                    <p:cond delay="0"/>
                                  </p:stCondLst>
                                  <p:childTnLst>
                                    <p:set>
                                      <p:cBhvr>
                                        <p:cTn id="56" dur="1" fill="hold">
                                          <p:stCondLst>
                                            <p:cond delay="0"/>
                                          </p:stCondLst>
                                        </p:cTn>
                                        <p:tgtEl>
                                          <p:spTgt spid="387"/>
                                        </p:tgtEl>
                                        <p:attrNameLst>
                                          <p:attrName>style.visibility</p:attrName>
                                        </p:attrNameLst>
                                      </p:cBhvr>
                                      <p:to>
                                        <p:strVal val="visible"/>
                                      </p:to>
                                    </p:set>
                                    <p:animEffect filter="circle(in)" transition="in">
                                      <p:cBhvr additive="repl">
                                        <p:cTn id="57" dur="2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5:11:27Z</dcterms:created>
  <dc:creator> </dc:creator>
  <dc:description/>
  <dc:language>en-US</dc:language>
  <cp:lastModifiedBy>Beryl</cp:lastModifiedBy>
  <dcterms:modified xsi:type="dcterms:W3CDTF">2010-12-20T23:02:47Z</dcterms:modified>
  <cp:revision>11</cp:revision>
  <dc:subject/>
  <dc:title>Russia’s environmental problems and issues</dc:title>
</cp:coreProperties>
</file>